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9B0C07-5BB1-4493-B28F-BDAC1C735D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E8D604-5E66-4053-8C0B-560628314C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BF3555-1DB8-417E-81C6-3E51346AC3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31061C-057D-49B4-BACC-8643FEA467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2CC1159-F40F-4466-9C04-8900F1AB2F0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86BA47-F2E1-4FC1-A6D7-5F885158E4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20139D-3E86-4646-A2A4-1BC19F34D0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55C363-65AA-482C-850F-499B7D4332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37C400-2CE8-4D1B-A3C8-B7952C425A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AE3F0E-EC2B-477C-9762-C7C9996D0A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83E03D-A32A-4354-A7E4-ACEE5855B0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85054A-E6B9-4F81-B238-14BD36F63A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916408-E354-4DDF-AD07-AD53DEBF75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226263-6149-4DD8-8A35-361903A21D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332652-3EB1-4795-AD48-D7650D4599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5C801F6-162B-4908-A057-E56898097CB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6A49DE1-82C6-4F54-977E-F0A2F79113E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C1D8C7-6742-4059-BA5F-97550A4CD3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3F61F0-AB7D-4C16-9A61-4C209CC6E4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64D356-4B9A-4293-B26F-A5DE27F5BE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29EB0D-C363-4056-9B54-D4F5D8EE31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3B565A-89FB-4B88-A495-D1955D65C4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EFD7D2-3404-4F86-9CAF-CE61C393A8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4C4322-FB9C-473B-AAD6-08A745F9A1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579576-9B0C-43FB-ADA6-E6B8E35B934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8200B1-94EC-447C-88C3-FEE47692C70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BC154A6-437A-4B34-9B0E-3981F7E6046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5D71992-15E2-46FC-B216-4647B0DFB62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2B10F6-368A-41D5-B364-7DBB1B433BBF}"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F9E37A-488F-4072-84CD-DAFCDDEE3972}"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4116B6-24A1-4C6E-BBBE-407E757B924C}"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C82FE5-B279-44A9-9B02-A41B91AC795C}"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84C795-D8AE-4F98-8794-0C9F99F05709}"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27BE49-583B-4D51-B2BE-8F1A107F0A03}"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42CB5F-2B53-4B5A-A914-E0321A826F78}"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4866E0-9487-4A00-A430-42713E12C75E}"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11C0BC-8080-48A5-B2AE-D168D2777890}"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A31DAF-4C6F-4560-8824-728C992CC398}"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E91461-7FF3-4D9F-B8F4-AC57352527CE}"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1124B3-77FB-428E-A0E5-1B86691C3F4B}"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4EC7BE-8816-44C8-A196-8CE2CBC337CF}"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160E28-6A92-46CE-828F-6BB83EDB544D}"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3C1F58-F4B6-40D7-A0E3-61D4624826A0}"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10BA3C-5FC0-4D1A-BEAF-EE038957AB53}"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61220B-0B62-4B03-A4F4-83F83848090C}"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B0CF80-59BF-4FDE-BC62-1BB1EA57DA03}"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E5ABB4-C5C5-402E-9B75-2E19041AFCB8}"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549F97-0429-4DBF-A95D-4B031E50E99B}"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6D37E7-C237-4F9E-8995-D6E47FBAB5D3}"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FE0AC6-095F-42BB-84D0-AEB1BFB1675A}"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1F4BA5-8A9C-4CF1-B226-E4E79EA33658}"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641824-E376-46BD-A7CC-7AA394273AF1}"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373310-7DF1-47FB-9453-3B7509185DC8}"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B3E302B-5C3C-480D-97ED-D875E887BB12}"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103EED-3695-482E-99C5-86A73834C792}"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DC4F6F-2746-4712-A22C-40C6B0088090}"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B04038-41C5-43E8-8603-FDE6453DB5E8}"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53AD22-7DC8-4BB5-BE03-76D4A2E8AED7}"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EA0325-2222-4A73-BD05-1883019BFE75}"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E5E179-A901-46CD-9B4B-DD5922F329F3}"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30C97E-4D06-4CD8-BAB5-35853A6903F8}"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79F8F7-3FC2-4EFE-AB5C-C70E4EBFD930}"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5AF804-18D0-4F77-A87A-C783CD411BDA}"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C2BEE1-FE7A-4681-B592-B8099816D23A}"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1ADE2A-7FD0-4E3E-BBE1-DD801963D60A}"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935ACD-C194-47FF-9348-542071CDB4B2}"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E2CDC0-0807-4C26-944C-A07D4FD8451A}"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76A1E4-AA67-4C90-8292-3E602FA17B70}"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8CF55F-FFAC-40EF-93B5-603A844E45F7}"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07F08D-5BB2-4EE0-8F6D-5E04B493F6DC}"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76B7AB-DBA4-449A-B5B7-94C35B8D8A4A}"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F805D6-AB82-4950-98BE-434CEA4FB9B0}"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04DDAC-4D56-44F4-A3A2-EB658461966C}"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ABDA68-CE3B-4F39-8DA8-4E3F3F398DC0}"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307C547-8B4A-4A37-989C-15D70B3705AE}"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2A614E-BF71-47FA-AB70-0A328AEA8683}"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A4E8BC-3D37-4115-BBB0-59D72682C806}"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34229A1-C5A1-408F-81E8-A9941BC36188}"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0E29D8-D5D9-4459-B5F7-D96C4A8D15D6}"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F1C1D1-2C99-4B46-8E4F-4BC5F44F6F53}"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0BC3C8-EDC3-4CDF-A35C-59A700AD3C65}"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F5B5C2-8484-45D7-9615-2E136EA5E8F7}"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C0F457-2B8F-44D8-B173-EB5FF3392C73}"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48DFC5-71A6-4472-B1A4-2E743E0EF0CB}"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9A0756-55CE-448A-9F5F-94358169A9D6}"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92B9F48-C2BB-4AEE-B8A7-9F173F1C4BE1}"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0CB23B-302C-4615-8402-FAB2A96FF5F6}"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D232AA-E76F-4689-A73F-722675A19F4A}"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C6E219-4A9D-44E5-A988-18C9D0EAA085}"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DC2847-795C-4D39-8845-027B42CE794D}"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503779-C7BE-46B1-A3EA-E63001BB5732}"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EC13152-2FF4-4BFE-B38C-9C8C6DE060D2}"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B58C2F-0D4F-4B77-840D-750927464974}"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185612-AE2D-493A-ACC1-F356857EBF61}"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28B5EB-B2CB-4F21-A45D-025951A875DF}"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124270-CB8D-45F4-89BA-E8BA4CA7195E}"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883AE6C-F3C2-44E0-8087-C9C2C6B1C351}"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1A3386-7791-4EF6-B651-9EAC51CBEFEC}"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267F96-2388-44DE-B817-98B86D8D8668}"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1F6066-B78F-4B6A-AEEE-82D1563AF525}"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545435-522F-40C0-9A91-4711E04F16F6}"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7523F3-C6AD-475C-956C-8ECEAA91373E}"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23D5B8-8D75-438A-8EB0-958AD1535FF8}"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E8AB486-19A6-4AB3-82BA-5CFCE9922986}"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374735-4B28-4187-941D-010912569606}"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641DD0-469D-4B70-9FEA-16F9D55BD4F7}"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45925C-AFD1-40D7-948D-3D88560AA732}"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9596D93-873C-4583-8DFF-A18CFC952866}"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9480C7-0335-482B-AB2B-AA1DDAB76E70}"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EA0737C-6703-4FC3-885C-1836F3E8761A}"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B67F40-7C47-4103-9412-036D007FAC95}"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ED3BBA-30FD-42EE-903F-F537FA17A9D9}"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62CC4A-A570-4714-A123-1A639D75F707}"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4D69C6-45EE-43E7-A6E2-A09CD0FDD80F}"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42EA4B-FF77-4D29-8181-48FEB0DB49A2}"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4D5149-3E1C-4104-A12C-67002A3CB7A5}"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195ECF-93AF-45B5-ADDC-CD08359E936C}"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E9C390-509A-4A96-8BFC-2F15646C530C}"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12B41F-A355-412C-BFC7-2EB1F1478CE0}"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A5E68D-88BA-4966-AF71-1B3634A22E8B}"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FAA630-6FE8-4CD8-AADB-E0614F9AB113}"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1DBFFA-E0E1-4DF6-ABFE-6996ED60C2A9}"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82D473-AF01-40F8-9A4E-6F36F94DF55F}"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7419B1-92AE-4D0D-A670-819C982922CD}"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190471-DF1E-4EB1-B971-AEFE9532F617}"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F6EB055-98E1-475E-9DF3-6BCD5569BE51}"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1ABE7A-A1D5-4B6C-853E-4E1045C19EF0}"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EDD978-BF8F-48BA-B25B-A688137E818F}"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51BF15-E89F-4F9F-A4CF-E14D1EAFD184}"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2673C0-E1A8-4115-B605-090AD9313F1A}"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3E2EB1-C10D-43DF-956A-4E97FE81A8DE}"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34886E-24E3-4CD1-85D0-A5B869B7E888}"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327FCF-3403-4644-B5C7-A2C2E1D961BC}"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1EDCC9-AF14-4EA4-9962-629BE7D7CA27}"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4CD477-2220-44C4-A531-A1745125FE01}"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AACD79-CAF6-4727-99A8-D3F17AADB812}"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B58226-E83B-4E5E-9F59-923564C7B0C0}"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2F5311-BC7D-4FBE-A944-5EDC33E51BD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4EDF56-9F11-4E94-820C-8E5881869C58}"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FFE2D5-5F08-4296-824D-1F79342BAD59}"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A8B87A-B39A-405E-9FCE-4B7E5B3E512B}"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E5CF8B-4180-49B3-AC7D-6E913989CFBE}"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7067B4-57F1-4270-A197-E04986FB0FF2}"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271A3B-4B98-4D48-BDF2-A39CA2072CBA}"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8A33CD-1D22-47AB-83E1-84F676CA6FAE}"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FCA59B-771A-47C4-9907-8D225E98B123}"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0476F1-8456-416E-A7E7-ED97124C68B7}"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B7AD74-A544-4E60-B2F2-2F0E09550A5C}"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3E8D92-24B2-4DFD-8A9B-B81637477582}"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28A28B-D964-4569-8F0C-94C5C6A5C8E9}"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CF332D-B2DA-491A-89F4-788A2982039C}"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7EC6F2-7CB5-4006-A83B-B52281B8D731}"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DA4851-9CA3-4152-8AF5-3005D9E5FC2B}"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F27B5E6-03A4-49A5-8CBC-FDB6F4A95931}"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F4BB97-7E01-4880-938F-B1E91F3770C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BBCB59-30F0-4502-8C1B-124457A1BD7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15DA54-8EC5-4C7E-BE67-53CFFCADC93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D4D011-AF2C-4B2A-86B3-876591F2BB6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FEDC15-93C1-48B9-AEBD-8F8AD1FFCE2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9E6C77-A0F2-4D29-A02A-C172862895A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EF4FB7B-BF0A-4B42-8A27-2346D797A73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98AE09-A497-4024-96DD-594A032BB44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7D4488-B318-4D61-987A-9ECAE502CDA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952FD5-E299-4AC9-86D3-9E6989D848F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B2488B-A4C7-46A9-A4B9-675B4E2C564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9D846E-4CA4-47D4-B8FC-AEF02234F52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1BB9CD-9B3E-4964-8883-8714E095A80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FB7451-5A1D-46A6-B92F-663471531FB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021BEB-959A-4503-8962-F878131233A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87CF5A-D807-456B-885C-08F3648C5F4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CD3EC9-1233-4A00-8060-9A178D01343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A5ACEB-18BC-4256-9AB7-0367340EC0E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E8368B-126D-4457-BAB3-CF1FC88B3B1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04A761-EA6B-4841-9E63-30101F391C9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35D5F1-A44D-4CFC-96E4-BE8AC737202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8BD9BA-05EA-4B67-98C2-99BC02605C1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68F770-7A5E-4B79-9B64-284EE3ACB5C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638F43-84C1-45B6-8305-E4C53FC13FA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D13E87-C0A3-4B96-ACD4-F98842E3663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DFA6D9-085D-4BD2-8A0C-B6B99066DEC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6F2ADF-F172-4353-9C8D-54658CDE883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A03635-27D1-422A-8BD5-8CFCD0982BE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111574-E341-4208-A2F6-5DBBBE53027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C660C7-739D-4DA3-BA9A-88A0AE08534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8E072D-E3E3-40CC-87AA-03A97A9310B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8ECE33-C6FD-43BB-BAF0-D3A532680D2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C19951-76C2-449B-910A-CC6A6DDB72F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680FF5-D1DF-4466-82CF-5CCE1B051F2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99126B-FBE3-4BDB-A05F-570BA63DECC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0516BB-A5F8-4FE6-8C96-409D7910001A}"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05D741-D7C6-47E8-BAAF-24D059232F0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19B6DC-AD07-4157-9727-2E8709C6D1C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9FFE28-A6DF-4669-9B4A-7185FA2E4E6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1B14D8-C7B7-4C4D-ABAA-B6530DB0A91F}"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A8EE50-4189-45EC-8C82-9C287271D0D2}"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9329DB-E19C-4D8F-94C3-F63D8C1064A8}"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E984E1-30BA-47DF-9237-FC9F9DD4B7C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B47EDB-ABBF-431B-9378-339A112589B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33BC6C-A619-4AFE-BC77-DD6DEA05A652}"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6C363E-0222-4DF4-A10C-4DDC9776896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483687-71D5-414B-A248-6C44145D333E}"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349C6E9-50B4-421E-9283-0B21467A9D2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92DD22-CAE2-41B2-800C-F49B735470EE}"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3331CC-E9E0-4CDA-8966-0CE9E431AD4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F2505D-222C-49DA-940D-6E40031DB179}"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B058B6-3774-4C54-BE26-58D35ED62F6A}"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09DA9B-1B8F-4E7B-B6D5-7C2E2DB3F05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44CCD0-5FB7-4F35-987A-9EE4E38334E6}"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6B0139-0D62-4545-876C-7F07DBB85D8A}"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EDA31B-BF5F-43B2-AF89-296A9613513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FD553C5-35F1-4C7D-875C-CE9679A7C2AA}"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9DAF9D-084E-45E9-A67C-BEF0B8867CE5}"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1BECEC-178D-455A-8574-9BD4E9543241}"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ACCC8C-CB37-4B52-AB46-D252835D352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33C89D-73BF-49F8-A1B2-8E8D85652F36}"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F2FA06-FB30-44D3-9BEC-CF30F3B5F509}"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6D3403-D6DE-4854-808D-B0156078F0F0}"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DDCDFF-9507-4811-8DEE-4E7DEAA8D441}"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29873E-1825-4B59-846D-BBBFD089700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DB030F-E70F-4EDF-8C1E-ED517309C085}"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8FD9C9-E3B7-413A-9EDA-4025D4113B1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D50667-C3B5-41A3-9032-FF4B103C00B4}"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491D8F-AEF9-42AF-BB85-36E5A3535F9F}"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AD3C5C-F18B-4E05-A31A-E9B535DCC598}"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940B4A-08BA-475C-ADB7-5AFCA7F525AF}"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A39B127-42E6-418B-8B5B-264959F22A22}"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988C51-58FB-4F59-8EB0-1F4A56FC10AD}"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F33F15-EC7F-4C0C-B8CF-528791D91086}"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2C5578-7005-44BF-AA45-A58E00AF1F60}"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F25F7C-8B21-4E4F-8FEC-4DB27D64F129}"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442E7B-D74B-4186-9232-6CC4C23CE71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B77992-E578-4489-8C34-8C129AB22B15}"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348543-04E3-43C2-9135-550BC6EBFFD6}"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DE9E55-4A74-432E-A1C8-37A1D1848E65}"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05206D-700D-4D23-9AC2-7D9A39EA02C8}"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8E6B74-DCA3-4D2A-BE12-CD2E73DDF5BF}"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1B3C44-2A09-4CA2-829A-F565990C8C42}"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605520-1D84-444C-9286-01655EA5C364}"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254AEF-1935-4824-A169-9DBB7D48F6C4}"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